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A408-FF08-4DA2-90F4-C624DD168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367E-D5EB-42E1-9249-B7B5B0ED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E33B-BC47-4A74-9061-A7EECF8E3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1B2B-8E60-4D7E-93B3-74D923E10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63C1-4527-4AEA-BA4A-17A7DFB1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D4B1-7B34-4E5C-9FD0-A8F3B604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29A0-E4FA-408A-ADE6-5D9B62ED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EB93-3F90-4423-B8EC-F6F0235D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C345-21E5-4F8C-957F-CF10BF7A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38BB-44E7-4DB6-A655-764C9227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C060-9253-4796-B88C-825EDC02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0AD3-A54D-4985-A823-CA541CB7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D764-FF76-4483-A28C-DF65C8740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4074840" cy="3254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81480" y="609480"/>
            <a:ext cx="3125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ini guid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éthodolog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343080"/>
            <a:ext cx="4248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8120" y="1109520"/>
            <a:ext cx="880596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3:58:53Z</dcterms:created>
  <dc:creator>Conseils</dc:creator>
  <dc:description/>
  <dc:language>en-US</dc:language>
  <cp:lastModifiedBy>Conseils</cp:lastModifiedBy>
  <dcterms:modified xsi:type="dcterms:W3CDTF">2002-08-15T13:56:44Z</dcterms:modified>
  <cp:revision>2</cp:revision>
  <dc:subject/>
  <dc:title>Présentation PowerPoint</dc:title>
</cp:coreProperties>
</file>